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0E92E-BA6F-4724-AE34-746C55EDE63F}" type="slidenum">
              <a:rPr b="0" lang="ro-RO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240EF-AA0A-4E4E-8AE5-E75AD851B741}" type="slidenum">
              <a:rPr b="0" lang="ro-RO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FFC34-E25E-4DAD-9F29-A82DDA2564C1}" type="slidenum">
              <a:rPr b="0" lang="ro-RO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9D22B-4F2D-40BF-9C99-FF566DCB7896}" type="slidenum">
              <a:rPr b="0" lang="ro-RO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31BE8-65DA-4B86-9E35-243E5E63DC2F}" type="slidenum">
              <a:rPr b="0" lang="ro-RO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A211E-0736-4C7F-B922-B6F0B3B99D52}" type="slidenum">
              <a:rPr b="0" lang="ro-RO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90C44-2C06-4D56-908F-F34BCA19ABFE}" type="slidenum">
              <a:rPr b="0" lang="ro-RO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48560-8134-40BF-A952-4D0162AF2B18}" type="slidenum">
              <a:rPr b="0" lang="ro-RO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lizat de Iliescu Vlad – cls. a XII-a B CNAM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F1C24-8DAD-416A-A744-A100B4AFD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4C863-59D9-4822-AC51-BE6650189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B9326-88BF-4CFB-851E-DF71B5EE6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EDF3F-8B6D-49F1-8BA7-D7949F4E9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A5999-C2D3-4E05-A65E-E42840415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D3357-089C-4927-A7E9-489B54484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505C9-4E4B-4729-A2CC-EB3F5876E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21EE0-35D8-43EE-8991-252591B4C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097DC-9749-4A47-A4CE-73B8EBC84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D2067-DFD5-4326-93F5-59C91A337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74EF0-D306-496F-B8AA-49DA041A1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BC971-85F1-4CB7-BEFC-BE33BEA4A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5E978-A9D6-4A53-8B71-7629C5EAFC87}" type="slidenum">
              <a:rPr b="0" lang="ro-RO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goritm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ţ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uni 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introduc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4"/>
          <p:cNvSpPr/>
          <p:nvPr/>
        </p:nvSpPr>
        <p:spPr>
          <a:xfrm>
            <a:off x="611280" y="259560"/>
            <a:ext cx="820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buClr>
                <a:srgbClr val="000000"/>
              </a:buClr>
              <a:buFont typeface="Arial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Noţiunea de algorit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611280" y="835920"/>
            <a:ext cx="806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 u="sng">
                <a:solidFill>
                  <a:srgbClr val="000000"/>
                </a:solidFill>
                <a:uFillTx/>
                <a:latin typeface="Arial"/>
              </a:rPr>
              <a:t>Def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ni</a:t>
            </a:r>
            <a:r>
              <a:rPr b="1" lang="ro-RO" sz="1800" spc="-1" strike="noStrike" u="sng">
                <a:solidFill>
                  <a:srgbClr val="000000"/>
                </a:solidFill>
                <a:uFillTx/>
                <a:latin typeface="Arial"/>
              </a:rPr>
              <a:t>ți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o-RO" sz="1800" spc="-1" strike="noStrike">
                <a:solidFill>
                  <a:srgbClr val="000000"/>
                </a:solidFill>
                <a:latin typeface="Arial"/>
              </a:rPr>
              <a:t>Prin algoritm se înţelege o metodă de soluţionare a unei clase de probleme, reprezentată de o succesiune finită de operaţii bine definite, numite instrucţiuni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611280" y="1989000"/>
            <a:ext cx="8064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Primul algoritm se considera algoritmul lui Euclid (utilizat pentru determinarea celui mai mare divizor comun a doua numere naturale). Termenul de algoritm poate fi înţeles în sens larg nefiind neapărat legat de rezolvarea unei probleme cu caracter ştiinţific, ci doar pentru a descrie într-o manieră ordonată activităţi care constau în parcurgere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unei succesiuni de paşi (cum este de exemplu utilizarea unui telefon public sau a unu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bancomat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539640" y="3933720"/>
            <a:ext cx="799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7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În matematică există o serie de algoritmi: cel al rezolvării ecuaţiei de gradul doi, algoritmul lui Eratostene (pentru generarea numerelor prime mai mici decât o anumita valoare), schema lui Horner (pentru determinarea câtului şi restului împărţirii unui polinom la un binom)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8"/>
          <p:cNvSpPr/>
          <p:nvPr/>
        </p:nvSpPr>
        <p:spPr>
          <a:xfrm>
            <a:off x="611280" y="5157720"/>
            <a:ext cx="820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Soluţia problemei se obţine prin </a:t>
            </a:r>
            <a:r>
              <a:rPr b="0" i="1" lang="ro-RO" sz="1800" spc="-1" strike="noStrike">
                <a:solidFill>
                  <a:srgbClr val="000000"/>
                </a:solidFill>
                <a:latin typeface="Arial"/>
              </a:rPr>
              <a:t>execuţia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algoritmului. Algoritmul poate fi  executat pe o maşină formală (în faza de proiectare şi analiză) sau pe o maşină fizică (calculator) după ce a fost codificat într-un limbaj de programa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5"/>
          <p:cNvSpPr/>
          <p:nvPr/>
        </p:nvSpPr>
        <p:spPr>
          <a:xfrm>
            <a:off x="539640" y="333360"/>
            <a:ext cx="489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. Caracteristicile unui algori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6"/>
          <p:cNvSpPr/>
          <p:nvPr/>
        </p:nvSpPr>
        <p:spPr>
          <a:xfrm>
            <a:off x="395280" y="1484280"/>
            <a:ext cx="842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1800" spc="-1" strike="noStrike" u="sng">
                <a:solidFill>
                  <a:srgbClr val="000000"/>
                </a:solidFill>
                <a:uFillTx/>
                <a:latin typeface="Arial"/>
              </a:rPr>
              <a:t>Generalitate</a:t>
            </a:r>
            <a:r>
              <a:rPr b="0" i="1" lang="ro-RO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Un algoritm destinat rezolvării unei probleme trebuie să permită obţinerea rezultatului pentru orice date de intrare şi nu numai pentru date particulare de intra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7"/>
          <p:cNvSpPr/>
          <p:nvPr/>
        </p:nvSpPr>
        <p:spPr>
          <a:xfrm>
            <a:off x="395280" y="2779560"/>
            <a:ext cx="83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1800" spc="-1" strike="noStrike" u="sng">
                <a:solidFill>
                  <a:srgbClr val="000000"/>
                </a:solidFill>
                <a:uFillTx/>
                <a:latin typeface="Arial"/>
              </a:rPr>
              <a:t>Finitudine</a:t>
            </a:r>
            <a:r>
              <a:rPr b="0" i="1" lang="ro-RO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Adică se termină după un număr finit de paşi, indiferent cât de mulţi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8"/>
          <p:cNvSpPr/>
          <p:nvPr/>
        </p:nvSpPr>
        <p:spPr>
          <a:xfrm>
            <a:off x="395280" y="3456000"/>
            <a:ext cx="8353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laritate</a:t>
            </a:r>
            <a:r>
              <a:rPr b="0" i="1" lang="ro-RO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Prelucrările algoritmului trebuie specificate riguros, fără ambiguităţi.  În orice etapă a execuţiei algoritmului trebuie să se ştie exact care este următoarea etapă ce va  executat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9"/>
          <p:cNvSpPr/>
          <p:nvPr/>
        </p:nvSpPr>
        <p:spPr>
          <a:xfrm>
            <a:off x="322200" y="4724280"/>
            <a:ext cx="8426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7480" indent="-87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o-RO" sz="1800" spc="-1" strike="noStrike" u="sng">
                <a:solidFill>
                  <a:srgbClr val="000000"/>
                </a:solidFill>
                <a:uFillTx/>
                <a:latin typeface="Arial"/>
              </a:rPr>
              <a:t>Eficienţă</a:t>
            </a:r>
            <a:r>
              <a:rPr b="0" i="1" lang="ro-RO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Algoritmii pot fi efectiv utilizaţi doar dacă folosesc </a:t>
            </a:r>
            <a:r>
              <a:rPr b="0" i="1" lang="ro-RO" sz="1800" spc="-1" strike="noStrike">
                <a:solidFill>
                  <a:srgbClr val="000000"/>
                </a:solidFill>
                <a:latin typeface="Arial"/>
              </a:rPr>
              <a:t>resurse de calcul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î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volum acceptabi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7480" indent="-87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Prin resurse de calcul se înţelege volumul de memorie şi timpul necesar pentru execuţi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4"/>
          <p:cNvSpPr/>
          <p:nvPr/>
        </p:nvSpPr>
        <p:spPr>
          <a:xfrm>
            <a:off x="0" y="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Exe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5"/>
          <p:cNvSpPr/>
          <p:nvPr/>
        </p:nvSpPr>
        <p:spPr>
          <a:xfrm>
            <a:off x="209520" y="476280"/>
            <a:ext cx="508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i="1" lang="ro-RO" sz="1800" spc="-1" strike="noStrike">
                <a:solidFill>
                  <a:srgbClr val="000000"/>
                </a:solidFill>
                <a:latin typeface="Arial"/>
              </a:rPr>
              <a:t>Nu orice problemă poate  rezolvată algoritmi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6"/>
          <p:cNvSpPr/>
          <p:nvPr/>
        </p:nvSpPr>
        <p:spPr>
          <a:xfrm>
            <a:off x="250920" y="981000"/>
            <a:ext cx="828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a. Fiind dat un număr </a:t>
            </a: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să se determine toţi divizorii să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7"/>
          <p:cNvSpPr/>
          <p:nvPr/>
        </p:nvSpPr>
        <p:spPr>
          <a:xfrm>
            <a:off x="468360" y="1341360"/>
            <a:ext cx="676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Pentru această problemă se poate scrie un algoritm foarte uş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8"/>
          <p:cNvSpPr/>
          <p:nvPr/>
        </p:nvSpPr>
        <p:spPr>
          <a:xfrm>
            <a:off x="324000" y="1916280"/>
            <a:ext cx="828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b. Fiind dat un număr </a:t>
            </a: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să se determine toţi multiplii să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9"/>
          <p:cNvSpPr/>
          <p:nvPr/>
        </p:nvSpPr>
        <p:spPr>
          <a:xfrm>
            <a:off x="468360" y="2276640"/>
            <a:ext cx="820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Pentru această problemă </a:t>
            </a: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nu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se poate scrie un algoritm deoarece nu cunoaştem un criteriu de oprire a operaţiil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10"/>
          <p:cNvSpPr/>
          <p:nvPr/>
        </p:nvSpPr>
        <p:spPr>
          <a:xfrm>
            <a:off x="289440" y="3357720"/>
            <a:ext cx="676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i="1" lang="ro-RO" sz="1800" spc="-1" strike="noStrike">
                <a:solidFill>
                  <a:srgbClr val="000000"/>
                </a:solidFill>
                <a:latin typeface="Arial"/>
              </a:rPr>
              <a:t>Un algoritm trebuie să funcţioneze pentru orice date de intra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1"/>
          <p:cNvSpPr/>
          <p:nvPr/>
        </p:nvSpPr>
        <p:spPr>
          <a:xfrm>
            <a:off x="324000" y="41497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2"/>
          <p:cNvSpPr/>
          <p:nvPr/>
        </p:nvSpPr>
        <p:spPr>
          <a:xfrm>
            <a:off x="324000" y="3789360"/>
            <a:ext cx="84978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Fiind date numerele </a:t>
            </a: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a, b, c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să se afişeze maximul dintre e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O posibilă soluţie ar fi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se compară </a:t>
            </a: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cu </a:t>
            </a: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şi </a:t>
            </a: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şi dacă e mai mare se afişează </a:t>
            </a: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, iar apo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se compară </a:t>
            </a: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cu </a:t>
            </a: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şi </a:t>
            </a: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şi dacă e mai mare se afişează </a:t>
            </a: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, iar apo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se compară </a:t>
            </a: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cu </a:t>
            </a: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şi </a:t>
            </a: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şi dacă e mai mare se afişează </a:t>
            </a: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4"/>
          <p:cNvSpPr/>
          <p:nvPr/>
        </p:nvSpPr>
        <p:spPr>
          <a:xfrm>
            <a:off x="324000" y="5805360"/>
            <a:ext cx="79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Algoritmul nu funcţionează dacă 2 valori sunt identice şi de valoare maxim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2"/>
          <p:cNvSpPr/>
          <p:nvPr/>
        </p:nvSpPr>
        <p:spPr>
          <a:xfrm>
            <a:off x="0" y="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Exe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3"/>
          <p:cNvSpPr/>
          <p:nvPr/>
        </p:nvSpPr>
        <p:spPr>
          <a:xfrm>
            <a:off x="328320" y="404640"/>
            <a:ext cx="403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i="1" lang="ro-RO" sz="1800" spc="-1" strike="noStrike">
                <a:solidFill>
                  <a:srgbClr val="000000"/>
                </a:solidFill>
                <a:latin typeface="Arial"/>
              </a:rPr>
              <a:t>Un algoritm trebuie sa se opreasc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4"/>
          <p:cNvSpPr/>
          <p:nvPr/>
        </p:nvSpPr>
        <p:spPr>
          <a:xfrm>
            <a:off x="324000" y="836640"/>
            <a:ext cx="8424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Se consideră următoarea secvenţă de prelucrăr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Pas 1. Atribuie variabilei </a:t>
            </a:r>
            <a:r>
              <a:rPr b="1" i="1" lang="ro-RO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ro-RO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valoarea 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Pas 2. Măreste valoarea lui </a:t>
            </a:r>
            <a:r>
              <a:rPr b="1" i="1" lang="ro-RO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ro-RO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cu 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Pas 3. Daca </a:t>
            </a:r>
            <a:r>
              <a:rPr b="1" i="1" lang="ro-RO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ro-RO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este egal cu 100 atunci se opreşte prelucrarea altfel se reia de la Pas 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5"/>
          <p:cNvSpPr/>
          <p:nvPr/>
        </p:nvSpPr>
        <p:spPr>
          <a:xfrm>
            <a:off x="250920" y="2421000"/>
            <a:ext cx="8353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Este usor de observat ca </a:t>
            </a:r>
            <a:r>
              <a:rPr b="0" i="1" lang="ro-RO" sz="18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nu va lua niciodată valoarea 100, deci succesiunea de prelucrări nu se termină niciodată. Din acest motiv nu poate  considerată un algoritm core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6"/>
          <p:cNvSpPr/>
          <p:nvPr/>
        </p:nvSpPr>
        <p:spPr>
          <a:xfrm>
            <a:off x="330840" y="3716280"/>
            <a:ext cx="592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1800" spc="-1" strike="noStrike">
                <a:solidFill>
                  <a:srgbClr val="000000"/>
                </a:solidFill>
                <a:latin typeface="Arial"/>
              </a:rPr>
              <a:t>4. Prelucrările dintr-un algoritm trebuie să fie neambigu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7"/>
          <p:cNvSpPr/>
          <p:nvPr/>
        </p:nvSpPr>
        <p:spPr>
          <a:xfrm>
            <a:off x="324000" y="4221000"/>
            <a:ext cx="84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Consideram următoarea secvenţă de prelucrăr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Pas 1. Atribuie variabilei </a:t>
            </a:r>
            <a:r>
              <a:rPr b="1" i="1" lang="ro-RO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ro-RO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valoarea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Pas 2. </a:t>
            </a:r>
            <a:r>
              <a:rPr b="0" i="1" lang="ro-RO" sz="1800" spc="-1" strike="noStrike">
                <a:solidFill>
                  <a:srgbClr val="000000"/>
                </a:solidFill>
                <a:latin typeface="Arial"/>
              </a:rPr>
              <a:t>Fie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se măreşte </a:t>
            </a:r>
            <a:r>
              <a:rPr b="1" i="1" lang="ro-RO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ro-RO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cu 1 </a:t>
            </a:r>
            <a:r>
              <a:rPr b="0" i="1" lang="ro-RO" sz="1800" spc="-1" strike="noStrike">
                <a:solidFill>
                  <a:srgbClr val="000000"/>
                </a:solidFill>
                <a:latin typeface="Arial"/>
              </a:rPr>
              <a:t>fie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se micşorează </a:t>
            </a:r>
            <a:r>
              <a:rPr b="1" i="1" lang="ro-RO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ro-RO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cu 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Pas 3. Daca </a:t>
            </a:r>
            <a:r>
              <a:rPr b="1" i="1" lang="ro-RO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ro-RO" sz="1800" spc="-1" strike="noStrike">
                <a:solidFill>
                  <a:srgbClr val="000000"/>
                </a:solidFill>
                <a:latin typeface="Arial"/>
              </a:rPr>
              <a:t>  aparţine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[-10</a:t>
            </a:r>
            <a:r>
              <a:rPr b="0" i="1" lang="ro-RO" sz="18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10] se reia de la Pas 2, altfel se opreşte algoritmu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4"/>
          <p:cNvSpPr/>
          <p:nvPr/>
        </p:nvSpPr>
        <p:spPr>
          <a:xfrm>
            <a:off x="0" y="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Exe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5"/>
          <p:cNvSpPr/>
          <p:nvPr/>
        </p:nvSpPr>
        <p:spPr>
          <a:xfrm>
            <a:off x="187200" y="620640"/>
            <a:ext cx="752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1800" spc="-1" strike="noStrike">
                <a:solidFill>
                  <a:srgbClr val="000000"/>
                </a:solidFill>
                <a:latin typeface="Arial"/>
              </a:rPr>
              <a:t>5. Un algoritm trebuie să se oprească după un interval rezonabil de tim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"/>
          <p:cNvSpPr/>
          <p:nvPr/>
        </p:nvSpPr>
        <p:spPr>
          <a:xfrm>
            <a:off x="468360" y="1052640"/>
            <a:ext cx="755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Fiind dat un număr </a:t>
            </a: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se cere să se determine de câte ori a apărut o cifră </a:t>
            </a: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în reprezentarea tuturor numerelor naturale mai mici ca </a:t>
            </a: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7"/>
          <p:cNvSpPr/>
          <p:nvPr/>
        </p:nvSpPr>
        <p:spPr>
          <a:xfrm>
            <a:off x="611280" y="1916280"/>
            <a:ext cx="7559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O rezolvare simplă ar fi să luăm toate numere mai mici ca </a:t>
            </a: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şi să vedem de câte ori apare cifra </a:t>
            </a: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în fiecare dinte ele. Soluţia e simplă şi pentru valori mici ale lui </a:t>
            </a: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algoritmul se termină într-un interval de timp rezonabil, dar pentru valori mari timpul de terminare al algoritmului creşte nepermis de mul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şii realizării unui algorit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"/>
          <p:cNvSpPr/>
          <p:nvPr/>
        </p:nvSpPr>
        <p:spPr>
          <a:xfrm>
            <a:off x="395280" y="112536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1. Citirea cu atenţie a enunţului probleme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5"/>
          <p:cNvSpPr/>
          <p:nvPr/>
        </p:nvSpPr>
        <p:spPr>
          <a:xfrm>
            <a:off x="395280" y="177336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2. Identificarea datelor de intrare şi a celor de ieşi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6"/>
          <p:cNvSpPr/>
          <p:nvPr/>
        </p:nvSpPr>
        <p:spPr>
          <a:xfrm>
            <a:off x="395280" y="2349360"/>
            <a:ext cx="828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3. Rezolvarea propriu-zisă a problemei pe cazuri particulare şi reprezentative. În acest moment </a:t>
            </a: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nu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se încearcă scrierea programului ci doar determinarea metodei de rezolvare, generalizarea şi înţelegerea aceste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7"/>
          <p:cNvSpPr/>
          <p:nvPr/>
        </p:nvSpPr>
        <p:spPr>
          <a:xfrm>
            <a:off x="395280" y="3500280"/>
            <a:ext cx="82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4. Descrierea în limbaj natural a soluţiei probleme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Dacă nu sunteţi capabili să descrieţi metoda folosită în limbaj natural e puţin probabil să o puteţi face într-un limbaj de programare care e mai restrictiv decât limbajul natur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8"/>
          <p:cNvSpPr/>
          <p:nvPr/>
        </p:nvSpPr>
        <p:spPr>
          <a:xfrm>
            <a:off x="395280" y="494172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5. Scrierea programului într-un limbaj de programa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9"/>
          <p:cNvSpPr/>
          <p:nvPr/>
        </p:nvSpPr>
        <p:spPr>
          <a:xfrm>
            <a:off x="395280" y="5589720"/>
            <a:ext cx="828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6. Testarea programului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Testarea se face pe mai multe seturi de date care să acopere cazurile posibile ce pot apăre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8T14:22:27Z</dcterms:created>
  <dc:creator>daniel</dc:creator>
  <dc:description/>
  <dc:language>en-US</dc:language>
  <cp:lastModifiedBy>Vlad</cp:lastModifiedBy>
  <dcterms:modified xsi:type="dcterms:W3CDTF">2011-02-03T09:16:36Z</dcterms:modified>
  <cp:revision>67</cp:revision>
  <dc:subject/>
  <dc:title>Algoritmi</dc:title>
</cp:coreProperties>
</file>